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drumroll.wav" ContentType="audio/x-wav"/>
  <Override PartName="/ppt/media/applause.wav" ContentType="audio/x-wav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4A5-8892-45CD-BF3D-9063F70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39A-6148-4920-9CE0-1A073C06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8F06-B6E2-4EA7-A3CC-6A23F0E0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FF6F-953C-497C-A685-54C0A2EC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CEA7-45B5-4141-BAC1-0B9EDEBD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6698-ABC5-40F6-9F35-CEDA3A8E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FFC1-8C93-4D66-AB47-214B09A0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BF2F-9741-46F5-8C94-74E9405B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F044-55BF-456E-BB34-A0767EBF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074FC-F18D-4640-824F-1D30C15E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5BC5-13F1-4C77-88CD-69F0793C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36B-0D19-4C82-B914-0195B336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2DF7-31CC-424C-B71D-31EC3843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916-FB6D-4D6C-ADE5-DFFB978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0BD9-D16B-4676-8643-3D0485B8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6FB2-E804-409C-9919-A3E71023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EBC-3A55-4D61-BC39-6E4E729FA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59FA-46CA-4428-9313-D44F6810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D5DA-A28C-4751-B395-0A975591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5AC-49B1-4CE4-86C8-4D1FB087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46CB-8EA7-4701-8EE7-C378491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AEF-DCF1-4734-8998-04938068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1DF-2C2B-4F1F-ADAD-9693007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FD4-7F5C-4D8F-BAC6-F139B28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AB5-EA07-431A-8139-3EAC29C4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8BE-539A-4180-8916-418BEFDC6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59436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ssage to Freedom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Vocabulary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1920" y="5638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G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2 Week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15" descr="PASSAGE TO FREEDOM"/>
          <p:cNvPicPr/>
          <p:nvPr/>
        </p:nvPicPr>
        <p:blipFill>
          <a:blip r:embed="rId1"/>
          <a:stretch/>
        </p:blipFill>
        <p:spPr>
          <a:xfrm>
            <a:off x="5334120" y="380880"/>
            <a:ext cx="34480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504960" y="1904760"/>
            <a:ext cx="518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erson whose work is to manage relations between nation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33920" y="457200"/>
            <a:ext cx="403848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Picture 6" descr="Bush Flag"/>
          <p:cNvPicPr/>
          <p:nvPr/>
        </p:nvPicPr>
        <p:blipFill>
          <a:blip r:embed="rId1"/>
          <a:stretch/>
        </p:blipFill>
        <p:spPr>
          <a:xfrm>
            <a:off x="304920" y="1981080"/>
            <a:ext cx="342900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uck and Marcy we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presentativ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our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maintain ord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act or speak for oth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04920" y="4343400"/>
            <a:ext cx="8153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6840" y="4568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s. Anderson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ss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he award for best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dju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iv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438280" y="4343400"/>
            <a:ext cx="39625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sent food and water to the group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fuge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who leave a country to escape dang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who refuse to leave their homepl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3809880"/>
            <a:ext cx="8686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076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r president met with sever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ploma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hite Hou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 people who lead in their count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*people who represent one country in ano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57200" y="4114800"/>
            <a:ext cx="77724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made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gre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list of possibilit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plan with detailed infor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990720" y="3886200"/>
            <a:ext cx="73911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ndy’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uperio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cided to make some chan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assi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ople who rank hig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752480" y="4419720"/>
            <a:ext cx="6019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means the same thing as the underlined wor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fore people used the telephone, they communicat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ab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lescop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legrap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1371600" y="4419720"/>
            <a:ext cx="5486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360" y="3276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00"/>
                </a:solidFill>
                <a:latin typeface="Comic Sans MS"/>
              </a:rPr>
              <a:t>You’ve got it!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Words to Know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57200" y="1219320"/>
            <a:ext cx="3657600" cy="9903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57200" y="2666880"/>
            <a:ext cx="28195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80880" y="4038480"/>
            <a:ext cx="373392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981080" y="5562720"/>
            <a:ext cx="3048120" cy="838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4495680" y="1295280"/>
            <a:ext cx="3733920" cy="8384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3581280" y="2438280"/>
            <a:ext cx="525780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4800600" y="3886200"/>
            <a:ext cx="35812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5410080" y="5181480"/>
            <a:ext cx="2971800" cy="6858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fficial signature or endorsement upon passport or document, showing it has been examined and approv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886200" y="304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5" descr="MPj03058000000[1]"/>
          <p:cNvPicPr/>
          <p:nvPr/>
        </p:nvPicPr>
        <p:blipFill>
          <a:blip r:embed="rId1"/>
          <a:stretch/>
        </p:blipFill>
        <p:spPr>
          <a:xfrm>
            <a:off x="685800" y="609480"/>
            <a:ext cx="2914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352320" y="19051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ssage sent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ough wires by electric current; also called a tele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648320" y="914400"/>
            <a:ext cx="2895480" cy="990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8" descr="Postal Telegraph Cable Co. operators in the Cornwell Building"/>
          <p:cNvPicPr/>
          <p:nvPr/>
        </p:nvPicPr>
        <p:blipFill>
          <a:blip r:embed="rId1"/>
          <a:stretch/>
        </p:blipFill>
        <p:spPr>
          <a:xfrm>
            <a:off x="0" y="457200"/>
            <a:ext cx="4419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86200" y="198072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to send out; put forth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038480" y="609480"/>
            <a:ext cx="358164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11" descr="MCj04136660000[1]"/>
          <p:cNvPicPr/>
          <p:nvPr/>
        </p:nvPicPr>
        <p:blipFill>
          <a:blip r:embed="rId1"/>
          <a:stretch/>
        </p:blipFill>
        <p:spPr>
          <a:xfrm>
            <a:off x="533520" y="3124080"/>
            <a:ext cx="35272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657600" y="2057040"/>
            <a:ext cx="5029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harmony in feeling or opinio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733920" y="609480"/>
            <a:ext cx="3886200" cy="12193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MCBD19890_0000[1]"/>
          <p:cNvPicPr/>
          <p:nvPr/>
        </p:nvPicPr>
        <p:blipFill>
          <a:blip r:embed="rId1"/>
          <a:stretch/>
        </p:blipFill>
        <p:spPr>
          <a:xfrm>
            <a:off x="1981080" y="4572000"/>
            <a:ext cx="2335320" cy="2068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MCBD19728_0000[1]"/>
          <p:cNvPicPr/>
          <p:nvPr/>
        </p:nvPicPr>
        <p:blipFill>
          <a:blip r:embed="rId2"/>
          <a:stretch/>
        </p:blipFill>
        <p:spPr>
          <a:xfrm>
            <a:off x="6477120" y="4800600"/>
            <a:ext cx="188424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657240" y="175248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people who flee to another country for safet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09880" y="304920"/>
            <a:ext cx="358164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2860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8" descr="44-150x108"/>
          <p:cNvPicPr/>
          <p:nvPr/>
        </p:nvPicPr>
        <p:blipFill>
          <a:blip r:embed="rId1"/>
          <a:stretch/>
        </p:blipFill>
        <p:spPr>
          <a:xfrm>
            <a:off x="228600" y="2895480"/>
            <a:ext cx="4038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962520" y="16761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people appointed or elected to act or speak for other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0" y="304920"/>
            <a:ext cx="5181480" cy="1066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80880" y="1523880"/>
            <a:ext cx="3276720" cy="44960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10" descr="MCj02500550000[1]"/>
          <p:cNvPicPr/>
          <p:nvPr/>
        </p:nvPicPr>
        <p:blipFill>
          <a:blip r:embed="rId1"/>
          <a:stretch/>
        </p:blipFill>
        <p:spPr>
          <a:xfrm>
            <a:off x="685800" y="1676520"/>
            <a:ext cx="2668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580920" y="1828800"/>
            <a:ext cx="495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people who are higher in rank or posi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304920"/>
            <a:ext cx="3581280" cy="121896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304920"/>
            <a:ext cx="327672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plo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s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uge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presentativ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6" descr="MCBD05515_0000[1]"/>
          <p:cNvPicPr/>
          <p:nvPr/>
        </p:nvPicPr>
        <p:blipFill>
          <a:blip r:embed="rId1"/>
          <a:stretch/>
        </p:blipFill>
        <p:spPr>
          <a:xfrm>
            <a:off x="685800" y="1828800"/>
            <a:ext cx="361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04:11:38Z</dcterms:created>
  <dc:creator>Jefferson County BoE</dc:creator>
  <dc:description/>
  <dc:language>en-US</dc:language>
  <cp:lastModifiedBy>gormanl</cp:lastModifiedBy>
  <dcterms:modified xsi:type="dcterms:W3CDTF">2011-12-19T15:31:31Z</dcterms:modified>
  <cp:revision>35</cp:revision>
  <dc:subject/>
  <dc:title>Frindle Vocabulary Words</dc:title>
</cp:coreProperties>
</file>